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9216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48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6512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48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6512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F5F18-42F7-460E-9DAB-6989DA29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9B227-7055-4D06-AAAE-62A05165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19708-0BB9-47AA-A60E-2F2FDA1A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8190F-CA97-4BE4-90CF-4CA7DD6E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059F7-CEE5-439A-BE60-CFF234EE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B21BF-87A1-4E28-A0A1-932DA04E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84400-7C55-48A5-B348-85E83096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9216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6E767-CF1D-4253-961B-05A61BB8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1418D-7588-4A95-92DB-D26BA849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199C8-8EF9-430D-B765-9998D7DE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9216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B065D-13CB-4455-9DFC-7702FC67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48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6512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48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6512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8EE92-01D4-47DD-A493-6E671DED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9216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260280"/>
            <a:ext cx="438120" cy="4748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260280"/>
            <a:ext cx="328320" cy="47484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682560"/>
            <a:ext cx="422280" cy="474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27000" y="682560"/>
            <a:ext cx="368280" cy="47484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09480"/>
            <a:ext cx="560160" cy="42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7ead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52280"/>
            <a:ext cx="31680" cy="10526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942840"/>
            <a:ext cx="8226360" cy="3204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Click to edit the title text format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0080"/>
                </a:solidFill>
                <a:latin typeface="Times New Roman"/>
              </a:rPr>
              <a:t>ECFA/BENE meeting – Hamburg - 3</a:t>
            </a:r>
            <a:r>
              <a:rPr b="1" lang="fr-FR" sz="1400" spc="-1" strike="noStrike" baseline="30000">
                <a:solidFill>
                  <a:srgbClr val="800080"/>
                </a:solidFill>
                <a:latin typeface="Times New Roman"/>
              </a:rPr>
              <a:t>rd</a:t>
            </a:r>
            <a:r>
              <a:rPr b="1" lang="fr-FR" sz="1400" spc="-1" strike="noStrike">
                <a:solidFill>
                  <a:srgbClr val="800080"/>
                </a:solidFill>
                <a:latin typeface="Times New Roman"/>
              </a:rPr>
              <a:t> november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638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80008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80"/>
                </a:solidFill>
                <a:latin typeface="Monotype Corsiva"/>
              </a:rPr>
              <a:t>Antoine Ca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al-coul-75" descr=""/>
          <p:cNvPicPr/>
          <p:nvPr/>
        </p:nvPicPr>
        <p:blipFill>
          <a:blip r:embed="rId2"/>
          <a:stretch/>
        </p:blipFill>
        <p:spPr>
          <a:xfrm>
            <a:off x="8534520" y="6454800"/>
            <a:ext cx="609480" cy="40320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917640" y="6400800"/>
            <a:ext cx="8226360" cy="3168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7ea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f7ead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7ead5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Click to edit the title text format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600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6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600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0ECA-A485-4D32-895B-9322B2CA286B}" type="slidenum">
              <a:rPr b="0" lang="fr-FR" sz="1400" spc="-1" strike="noStrike">
                <a:solidFill>
                  <a:srgbClr val="6600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800080"/>
                </a:solidFill>
                <a:latin typeface="Tahoma"/>
              </a:rPr>
              <a:t>SPL-Fréjus optimisation. </a:t>
            </a:r>
            <a:endParaRPr b="1" i="1" lang="en-US" sz="40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Monotype Corsiva"/>
              </a:rPr>
              <a:t>Antoine Caz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80"/>
                </a:solidFill>
                <a:latin typeface="Tahoma"/>
              </a:rPr>
              <a:t>Laboratoir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9999"/>
                </a:solidFill>
                <a:latin typeface="Tahoma"/>
              </a:rPr>
              <a:t>de L’accélérateur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800080"/>
                </a:solidFill>
                <a:latin typeface="Tahoma"/>
              </a:rPr>
              <a:t>Linéa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fr-FR" sz="32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november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Neutrino Flux 100km away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80960" y="1363680"/>
            <a:ext cx="7645680" cy="5092200"/>
            <a:chOff x="480960" y="1363680"/>
            <a:chExt cx="7645680" cy="5092200"/>
          </a:xfrm>
        </p:grpSpPr>
        <p:pic>
          <p:nvPicPr>
            <p:cNvPr id="239" name="spectres" descr=""/>
            <p:cNvPicPr/>
            <p:nvPr/>
          </p:nvPicPr>
          <p:blipFill>
            <a:blip r:embed="rId1"/>
            <a:stretch/>
          </p:blipFill>
          <p:spPr>
            <a:xfrm>
              <a:off x="528840" y="1363680"/>
              <a:ext cx="7597800" cy="5003640"/>
            </a:xfrm>
            <a:prstGeom prst="rect">
              <a:avLst/>
            </a:prstGeom>
            <a:ln w="28440">
              <a:solidFill>
                <a:srgbClr val="660066"/>
              </a:solidFill>
              <a:miter/>
            </a:ln>
          </p:spPr>
        </p:pic>
        <p:sp>
          <p:nvSpPr>
            <p:cNvPr id="240" name=""/>
            <p:cNvSpPr/>
            <p:nvPr/>
          </p:nvSpPr>
          <p:spPr>
            <a:xfrm>
              <a:off x="3176280" y="3643560"/>
              <a:ext cx="112284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00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48360" y="3655800"/>
              <a:ext cx="112284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00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200000">
              <a:off x="-315000" y="3795840"/>
              <a:ext cx="20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evts/100m</a:t>
              </a:r>
              <a:r>
                <a:rPr b="0" lang="fr-FR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/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70280" y="6177960"/>
              <a:ext cx="457200" cy="12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16800" y="6177960"/>
              <a:ext cx="495360" cy="13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65200" y="6085080"/>
              <a:ext cx="112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00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86160" y="6060600"/>
              <a:ext cx="112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00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137360" y="1155600"/>
            <a:ext cx="2006640" cy="1219320"/>
            <a:chOff x="7137360" y="1155600"/>
            <a:chExt cx="2006640" cy="1219320"/>
          </a:xfrm>
        </p:grpSpPr>
        <p:sp>
          <p:nvSpPr>
            <p:cNvPr id="248" name=""/>
            <p:cNvSpPr/>
            <p:nvPr/>
          </p:nvSpPr>
          <p:spPr>
            <a:xfrm>
              <a:off x="7137360" y="1155600"/>
              <a:ext cx="1930680" cy="1219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94560" y="1206360"/>
              <a:ext cx="15494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rom K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rom K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39240" y="1396800"/>
              <a:ext cx="35532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39240" y="1752480"/>
              <a:ext cx="355320" cy="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39240" y="2120760"/>
              <a:ext cx="355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156080" y="69840"/>
            <a:ext cx="1879920" cy="109224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660066"/>
                </a:solidFill>
                <a:latin typeface="Tahoma"/>
              </a:rPr>
              <a:t>k</a:t>
            </a: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=3.5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 ~3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</a:rPr>
              <a:t>0</a:t>
            </a: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0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L = 40m,R=2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80240" y="1042920"/>
            <a:ext cx="1755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c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fr-FR" sz="2800" spc="-1" strike="noStrike">
                <a:solidFill>
                  <a:srgbClr val="800080"/>
                </a:solidFill>
                <a:latin typeface="Symbol"/>
                <a:ea typeface="Symbol"/>
              </a:rPr>
              <a:t></a:t>
            </a:r>
            <a:r>
              <a:rPr b="1" i="1" lang="fr-FR" sz="2800" spc="-1" strike="noStrike" baseline="-25000">
                <a:solidFill>
                  <a:srgbClr val="800080"/>
                </a:solidFill>
                <a:latin typeface="Tahoma"/>
              </a:rPr>
              <a:t>13</a:t>
            </a:r>
            <a:r>
              <a:rPr b="1" i="1" lang="fr-FR" sz="2800" spc="-1" strike="noStrike">
                <a:solidFill>
                  <a:srgbClr val="800080"/>
                </a:solidFill>
                <a:latin typeface="Tahoma"/>
              </a:rPr>
              <a:t> and </a:t>
            </a:r>
            <a:r>
              <a:rPr b="1" i="1" lang="fr-FR" sz="2800" spc="-1" strike="noStrike">
                <a:solidFill>
                  <a:srgbClr val="800080"/>
                </a:solidFill>
                <a:latin typeface="Symbol"/>
                <a:ea typeface="Symbol"/>
              </a:rPr>
              <a:t></a:t>
            </a:r>
            <a:r>
              <a:rPr b="1" i="1" lang="fr-FR" sz="2800" spc="-1" strike="noStrike" baseline="-25000">
                <a:solidFill>
                  <a:srgbClr val="800080"/>
                </a:solidFill>
                <a:latin typeface="Tahoma"/>
              </a:rPr>
              <a:t>CP</a:t>
            </a:r>
            <a:r>
              <a:rPr b="1" i="1" lang="fr-FR" sz="2800" spc="-1" strike="noStrike">
                <a:solidFill>
                  <a:srgbClr val="800080"/>
                </a:solidFill>
                <a:latin typeface="Tahoma"/>
              </a:rPr>
              <a:t> 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Sensitivity computa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auro Mezzetto’s privat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ter Cerenk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40 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Fréjus (130 km from CER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 ye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yea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4 ye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ye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8 ye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d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(standard benchmark)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parameter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2.5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7.1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3954600" y="3681360"/>
            <a:ext cx="166680" cy="498600"/>
          </a:xfrm>
          <a:custGeom>
            <a:avLst/>
            <a:gdLst>
              <a:gd name="textAreaLeft" fmla="*/ 22320 w 166680"/>
              <a:gd name="textAreaRight" fmla="*/ 144360 w 166680"/>
              <a:gd name="textAreaTop" fmla="*/ 87120 h 498600"/>
              <a:gd name="textAreaBottom" fmla="*/ 3614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0080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44680" y="352260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S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13560" y="3633840"/>
            <a:ext cx="272880" cy="1057320"/>
          </a:xfrm>
          <a:custGeom>
            <a:avLst/>
            <a:gdLst>
              <a:gd name="textAreaLeft" fmla="*/ 36360 w 272880"/>
              <a:gd name="textAreaRight" fmla="*/ 236520 w 272880"/>
              <a:gd name="textAreaTop" fmla="*/ 203040 h 1057320"/>
              <a:gd name="textAreaBottom" fmla="*/ 70020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1480565"/>
                <a:lnTo>
                  <a:pt x="13860" y="19665"/>
                </a:lnTo>
                <a:lnTo>
                  <a:pt x="0" y="17530"/>
                </a:lnTo>
                <a:lnTo>
                  <a:pt x="13860" y="11524"/>
                </a:lnTo>
                <a:lnTo>
                  <a:pt x="13860" y="14670"/>
                </a:lnTo>
                <a:arcTo wR="21600" hR="8303" stAng="1480565" swAng="-1332597"/>
                <a:lnTo>
                  <a:pt x="21466" y="9227"/>
                </a:lnTo>
                <a:arcTo wR="21600" hR="8303" stAng="-147968" swAng="-5252032"/>
                <a:close/>
              </a:path>
              <a:path fill="darkenLess"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-147968"/>
                <a:lnTo>
                  <a:pt x="21466" y="9227"/>
                </a:lnTo>
                <a:arcTo wR="21600" hR="8303" stAng="-147968" swAng="-5252032"/>
                <a:close/>
              </a:path>
            </a:pathLst>
          </a:custGeom>
          <a:solidFill>
            <a:srgbClr val="800080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21000" y="38386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Sam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2200" y="537696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5240" y="5710320"/>
            <a:ext cx="194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0.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5 years positive focusing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-91440" y="5562720"/>
            <a:ext cx="8800200" cy="926280"/>
            <a:chOff x="-91440" y="5562720"/>
            <a:chExt cx="8800200" cy="926280"/>
          </a:xfrm>
        </p:grpSpPr>
        <p:sp>
          <p:nvSpPr>
            <p:cNvPr id="265" name=""/>
            <p:cNvSpPr/>
            <p:nvPr/>
          </p:nvSpPr>
          <p:spPr>
            <a:xfrm>
              <a:off x="-9144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41920" y="5729400"/>
              <a:ext cx="306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660066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660066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&gt; 7.1 10</a:t>
              </a:r>
              <a:r>
                <a:rPr b="1" lang="en-US" sz="2800" spc="-1" strike="noStrike" baseline="30000">
                  <a:solidFill>
                    <a:srgbClr val="660066"/>
                  </a:solidFill>
                  <a:latin typeface="Tahoma"/>
                </a:rPr>
                <a:t>-4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34040" y="5562720"/>
              <a:ext cx="17838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0066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660066"/>
                  </a:solidFill>
                  <a:latin typeface="Tahoma"/>
                </a:rPr>
                <a:t>k</a:t>
              </a:r>
              <a:r>
                <a:rPr b="0" lang="en-GB" sz="2400" spc="-1" strike="noStrike">
                  <a:solidFill>
                    <a:srgbClr val="660066"/>
                  </a:solidFill>
                  <a:latin typeface="Tahoma"/>
                </a:rPr>
                <a:t> = 4.5G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0066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660066"/>
                  </a:solidFill>
                  <a:latin typeface="Symbol"/>
                  <a:ea typeface="Symbol"/>
                </a:rPr>
                <a:t></a:t>
              </a:r>
              <a:r>
                <a:rPr b="0" lang="en-GB" sz="2400" spc="-1" strike="noStrike">
                  <a:solidFill>
                    <a:srgbClr val="660066"/>
                  </a:solidFill>
                  <a:latin typeface="Tahoma"/>
                </a:rPr>
                <a:t>=300M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5780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7ead5"/>
                </a:gs>
                <a:gs pos="50000">
                  <a:srgbClr val="800080"/>
                </a:gs>
                <a:gs pos="100000">
                  <a:srgbClr val="f7ea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2000" y="5562720"/>
              <a:ext cx="270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ahoma"/>
                </a:rPr>
                <a:t>tunnel : 40m lo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ahoma"/>
                </a:rPr>
                <a:t>2m radi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5268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7ead5"/>
                </a:gs>
                <a:gs pos="50000">
                  <a:srgbClr val="800080"/>
                </a:gs>
                <a:gs pos="100000">
                  <a:srgbClr val="f7ea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2120" y="5638680"/>
              <a:ext cx="75960" cy="762120"/>
            </a:xfrm>
            <a:prstGeom prst="rect">
              <a:avLst/>
            </a:prstGeom>
            <a:gradFill rotWithShape="0">
              <a:gsLst>
                <a:gs pos="0">
                  <a:srgbClr val="f7ead5"/>
                </a:gs>
                <a:gs pos="50000">
                  <a:srgbClr val="800080"/>
                </a:gs>
                <a:gs pos="100000">
                  <a:srgbClr val="f7ea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889200" y="99072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738680" y="990720"/>
            <a:ext cx="4011480" cy="4615560"/>
            <a:chOff x="4738680" y="990720"/>
            <a:chExt cx="4011480" cy="4615560"/>
          </a:xfrm>
        </p:grpSpPr>
        <p:sp>
          <p:nvSpPr>
            <p:cNvPr id="274" name=""/>
            <p:cNvSpPr/>
            <p:nvPr/>
          </p:nvSpPr>
          <p:spPr>
            <a:xfrm>
              <a:off x="5002560" y="990720"/>
              <a:ext cx="34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Focusing compari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comp5year" descr=""/>
            <p:cNvPicPr/>
            <p:nvPr/>
          </p:nvPicPr>
          <p:blipFill>
            <a:blip r:embed="rId1"/>
            <a:stretch/>
          </p:blipFill>
          <p:spPr>
            <a:xfrm>
              <a:off x="4800600" y="1447920"/>
              <a:ext cx="3849840" cy="4114800"/>
            </a:xfrm>
            <a:prstGeom prst="rect">
              <a:avLst/>
            </a:prstGeom>
            <a:ln w="28440">
              <a:solidFill>
                <a:srgbClr val="660066"/>
              </a:solidFill>
              <a:miter/>
            </a:ln>
          </p:spPr>
        </p:pic>
        <p:sp>
          <p:nvSpPr>
            <p:cNvPr id="276" name=""/>
            <p:cNvSpPr/>
            <p:nvPr/>
          </p:nvSpPr>
          <p:spPr>
            <a:xfrm>
              <a:off x="755136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80008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80008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05720" y="519444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53480" y="5335560"/>
              <a:ext cx="6890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70880" y="516564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97360" y="1490760"/>
              <a:ext cx="389160" cy="33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6200000">
              <a:off x="426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38680" y="4140360"/>
              <a:ext cx="6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284" name="compSensi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660066"/>
              </a:solidFill>
              <a:miter/>
            </a:ln>
          </p:spPr>
        </p:pic>
        <p:sp>
          <p:nvSpPr>
            <p:cNvPr id="285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80008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80008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403280" y="3433680"/>
            <a:ext cx="4737240" cy="787320"/>
            <a:chOff x="1403280" y="3433680"/>
            <a:chExt cx="4737240" cy="787320"/>
          </a:xfrm>
        </p:grpSpPr>
        <p:sp>
          <p:nvSpPr>
            <p:cNvPr id="294" name=""/>
            <p:cNvSpPr/>
            <p:nvPr/>
          </p:nvSpPr>
          <p:spPr>
            <a:xfrm>
              <a:off x="1403280" y="3544920"/>
              <a:ext cx="351000" cy="676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89520" y="3433680"/>
              <a:ext cx="351000" cy="676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765440" y="3730320"/>
              <a:ext cx="4020840" cy="903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599080" y="3656160"/>
            <a:ext cx="1800" cy="150336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60360" y="76320"/>
            <a:ext cx="7718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positive focusing vs 10 years mixed scenario.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pic>
        <p:nvPicPr>
          <p:cNvPr id="299" name="compDeltaTheta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3925800" cy="412272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300" name="sensiDeltaTheta" descr=""/>
          <p:cNvPicPr/>
          <p:nvPr/>
        </p:nvPicPr>
        <p:blipFill>
          <a:blip r:embed="rId2"/>
          <a:stretch/>
        </p:blipFill>
        <p:spPr>
          <a:xfrm>
            <a:off x="4983120" y="1413000"/>
            <a:ext cx="3900600" cy="408600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sp>
        <p:nvSpPr>
          <p:cNvPr id="301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7640" y="51307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03560" y="51404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1120" y="51274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516888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83360" y="5118120"/>
            <a:ext cx="11682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175520" y="51181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1184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76800" y="51148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5512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2008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33880" y="51530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98840" y="51656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15200" y="1974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85600" y="390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07720" y="18860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54080" y="38671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0480" y="97776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45560" y="96516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Focusing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711440" y="3524400"/>
            <a:ext cx="1282680" cy="1191240"/>
            <a:chOff x="1711440" y="3524400"/>
            <a:chExt cx="1282680" cy="1191240"/>
          </a:xfrm>
        </p:grpSpPr>
        <p:sp>
          <p:nvSpPr>
            <p:cNvPr id="321" name=""/>
            <p:cNvSpPr/>
            <p:nvPr/>
          </p:nvSpPr>
          <p:spPr>
            <a:xfrm>
              <a:off x="1711440" y="3524400"/>
              <a:ext cx="128268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16200" y="37465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16200" y="398808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16200" y="4267440"/>
              <a:ext cx="2160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29160" y="4521240"/>
              <a:ext cx="21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73200" y="1523880"/>
            <a:ext cx="21564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1400" y="41511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4000" y="36432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9160" y="3122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0960" y="260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1400" y="465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1480" y="1498680"/>
            <a:ext cx="2160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09680" y="41259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12640" y="36180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67800" y="309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09680" y="46339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746600" y="1339920"/>
            <a:ext cx="1434960" cy="1554120"/>
            <a:chOff x="4746600" y="1339920"/>
            <a:chExt cx="1434960" cy="1554120"/>
          </a:xfrm>
        </p:grpSpPr>
        <p:sp>
          <p:nvSpPr>
            <p:cNvPr id="338" name=""/>
            <p:cNvSpPr/>
            <p:nvPr/>
          </p:nvSpPr>
          <p:spPr>
            <a:xfrm>
              <a:off x="4746600" y="1339920"/>
              <a:ext cx="1434960" cy="1554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60M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42000" y="1536840"/>
              <a:ext cx="187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42000" y="2004840"/>
              <a:ext cx="199800" cy="180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29040" y="2502000"/>
              <a:ext cx="2001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400" y="5562720"/>
            <a:ext cx="8902440" cy="926280"/>
            <a:chOff x="5400" y="5562720"/>
            <a:chExt cx="8902440" cy="926280"/>
          </a:xfrm>
        </p:grpSpPr>
        <p:sp>
          <p:nvSpPr>
            <p:cNvPr id="343" name=""/>
            <p:cNvSpPr/>
            <p:nvPr/>
          </p:nvSpPr>
          <p:spPr>
            <a:xfrm>
              <a:off x="540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38320" y="5729400"/>
              <a:ext cx="326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660066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660066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&gt; 2.02 10</a:t>
              </a:r>
              <a:r>
                <a:rPr b="1" lang="en-US" sz="2800" spc="-1" strike="noStrike" baseline="30000">
                  <a:solidFill>
                    <a:srgbClr val="660066"/>
                  </a:solidFill>
                  <a:latin typeface="Tahoma"/>
                </a:rPr>
                <a:t>-3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0880" y="5562720"/>
              <a:ext cx="1900080" cy="926280"/>
              <a:chOff x="3530880" y="5562720"/>
              <a:chExt cx="1900080" cy="926280"/>
            </a:xfrm>
          </p:grpSpPr>
          <p:sp>
            <p:nvSpPr>
              <p:cNvPr id="346" name=""/>
              <p:cNvSpPr/>
              <p:nvPr/>
            </p:nvSpPr>
            <p:spPr>
              <a:xfrm>
                <a:off x="3530880" y="5562720"/>
                <a:ext cx="178380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660066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660066"/>
                    </a:solidFill>
                    <a:latin typeface="Tahoma"/>
                  </a:rPr>
                  <a:t>k</a:t>
                </a:r>
                <a:r>
                  <a:rPr b="0" lang="en-GB" sz="2400" spc="-1" strike="noStrike">
                    <a:solidFill>
                      <a:srgbClr val="660066"/>
                    </a:solidFill>
                    <a:latin typeface="Tahoma"/>
                  </a:rPr>
                  <a:t> = 3.5Ge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660066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660066"/>
                    </a:solidFill>
                    <a:latin typeface="Symbol"/>
                    <a:ea typeface="Symbol"/>
                  </a:rPr>
                  <a:t></a:t>
                </a:r>
                <a:r>
                  <a:rPr b="0" lang="en-GB" sz="2400" spc="-1" strike="noStrike">
                    <a:solidFill>
                      <a:srgbClr val="660066"/>
                    </a:solidFill>
                    <a:latin typeface="Tahoma"/>
                  </a:rPr>
                  <a:t>=300Me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5464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50000">
                    <a:srgbClr val="800080"/>
                  </a:gs>
                  <a:gs pos="100000">
                    <a:srgbClr val="f7ea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98840" y="5562720"/>
              <a:ext cx="2727000" cy="838080"/>
              <a:chOff x="798840" y="5562720"/>
              <a:chExt cx="2727000" cy="838080"/>
            </a:xfrm>
          </p:grpSpPr>
          <p:sp>
            <p:nvSpPr>
              <p:cNvPr id="349" name=""/>
              <p:cNvSpPr/>
              <p:nvPr/>
            </p:nvSpPr>
            <p:spPr>
              <a:xfrm>
                <a:off x="798840" y="5562720"/>
                <a:ext cx="2701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Tahoma"/>
                  </a:rPr>
                  <a:t>tunnel : 40m lo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Tahoma"/>
                  </a:rPr>
                  <a:t>2m radiu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4952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50000">
                    <a:srgbClr val="800080"/>
                  </a:gs>
                  <a:gs pos="100000">
                    <a:srgbClr val="f7ea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58960" y="5638680"/>
                <a:ext cx="75960" cy="76212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50000">
                    <a:srgbClr val="800080"/>
                  </a:gs>
                  <a:gs pos="100000">
                    <a:srgbClr val="f7ea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"/>
          <p:cNvSpPr/>
          <p:nvPr/>
        </p:nvSpPr>
        <p:spPr>
          <a:xfrm>
            <a:off x="8229600" y="1403280"/>
            <a:ext cx="0" cy="368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84760" y="1866960"/>
            <a:ext cx="126504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39680" y="60580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90%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ampagne300" descr=""/>
          <p:cNvPicPr/>
          <p:nvPr/>
        </p:nvPicPr>
        <p:blipFill>
          <a:blip r:embed="rId1"/>
          <a:stretch/>
        </p:blipFill>
        <p:spPr>
          <a:xfrm>
            <a:off x="2962440" y="747720"/>
            <a:ext cx="6011640" cy="439884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37960" y="1011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General comparison.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1360" y="5292720"/>
            <a:ext cx="8972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 10 years in mixed focusing, sensitivity aroun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~1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lear complementarily between positive scenario an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am 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&gt;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200160" y="3881520"/>
            <a:ext cx="269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5y mixed 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10y mixed 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5y positive 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835360" y="3244320"/>
            <a:ext cx="1542960" cy="88452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873520" y="3586320"/>
            <a:ext cx="1604880" cy="860400"/>
          </a:xfrm>
          <a:prstGeom prst="line">
            <a:avLst/>
          </a:prstGeom>
          <a:ln w="38160">
            <a:solidFill>
              <a:srgbClr val="d6009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860560" y="3987360"/>
            <a:ext cx="1995480" cy="725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Super Beam </a:t>
            </a:r>
            <a:r>
              <a:rPr b="1" i="1" lang="fr-FR" sz="2800" spc="-1" strike="noStrike">
                <a:solidFill>
                  <a:srgbClr val="800080"/>
                </a:solidFill>
                <a:latin typeface="Tahoma"/>
              </a:rPr>
              <a:t>&amp;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beta Beam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pic>
        <p:nvPicPr>
          <p:cNvPr id="363" name="delta_potentiel" descr=""/>
          <p:cNvPicPr/>
          <p:nvPr/>
        </p:nvPicPr>
        <p:blipFill>
          <a:blip r:embed="rId1"/>
          <a:stretch/>
        </p:blipFill>
        <p:spPr>
          <a:xfrm>
            <a:off x="1755720" y="1098720"/>
            <a:ext cx="5827680" cy="46782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364" name=""/>
          <p:cNvSpPr/>
          <p:nvPr/>
        </p:nvSpPr>
        <p:spPr>
          <a:xfrm>
            <a:off x="2435040" y="58546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 discovery potential cu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77440" y="13143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S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10040" y="5754600"/>
            <a:ext cx="156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. Mezz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Villars SPSC 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66360" y="3179880"/>
            <a:ext cx="12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228840" y="2576160"/>
            <a:ext cx="393840" cy="67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03800" y="4211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Comb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22640" y="196848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ptim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4452840" y="2624040"/>
            <a:ext cx="225360" cy="333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Conclus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8800" y="1305000"/>
            <a:ext cx="8623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gher proton energy is bett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nsitivity to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6666"/>
                </a:solidFill>
                <a:latin typeface="Tahoma"/>
              </a:rPr>
              <a:t>+25%!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fixed tunnel, 2.2GeV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5Ge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ensitivit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in the wors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ca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wn to </a:t>
            </a:r>
            <a:r>
              <a:rPr b="0" lang="en-GB" sz="2400" spc="-1" strike="noStrike">
                <a:solidFill>
                  <a:srgbClr val="006666"/>
                </a:solidFill>
                <a:latin typeface="Tahoma"/>
              </a:rPr>
              <a:t>1.3°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with the 10y mixed scen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wn to </a:t>
            </a:r>
            <a:r>
              <a:rPr b="0" lang="en-GB" sz="2400" spc="-1" strike="noStrike">
                <a:solidFill>
                  <a:srgbClr val="006666"/>
                </a:solidFill>
                <a:latin typeface="Tahoma"/>
              </a:rPr>
              <a:t>1.6°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with the 5y mixed scen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= 3.5GeV, 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~300Me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=40m, R=2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n measur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outline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4600" y="1318680"/>
            <a:ext cx="44942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rticle p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rn design optim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cay tunnel parameter optim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lux computation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at Fréj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nsi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parison and conclu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626000" y="6516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L – 04-102, submitted soon to EPJ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728960" y="992160"/>
            <a:ext cx="2055960" cy="1066320"/>
            <a:chOff x="4728960" y="992160"/>
            <a:chExt cx="2055960" cy="1066320"/>
          </a:xfrm>
        </p:grpSpPr>
        <p:sp>
          <p:nvSpPr>
            <p:cNvPr id="106" name=""/>
            <p:cNvSpPr/>
            <p:nvPr/>
          </p:nvSpPr>
          <p:spPr>
            <a:xfrm>
              <a:off x="4728960" y="992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3480" y="160164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13320" y="1449000"/>
              <a:ext cx="228600" cy="3808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65600" y="1449000"/>
              <a:ext cx="685800" cy="3808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75080" y="1449000"/>
              <a:ext cx="228600" cy="3808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7ea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80000" y="1677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480000" y="1296720"/>
              <a:ext cx="228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80000" y="190620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830840" y="2135160"/>
            <a:ext cx="2005920" cy="990720"/>
            <a:chOff x="4830840" y="2135160"/>
            <a:chExt cx="2005920" cy="990720"/>
          </a:xfrm>
        </p:grpSpPr>
        <p:sp>
          <p:nvSpPr>
            <p:cNvPr id="115" name=""/>
            <p:cNvSpPr/>
            <p:nvPr/>
          </p:nvSpPr>
          <p:spPr>
            <a:xfrm>
              <a:off x="4830840" y="25923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30840" y="27450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440320" y="2287800"/>
              <a:ext cx="9900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40320" y="2745000"/>
              <a:ext cx="9900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830840" y="22114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830840" y="2745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30840" y="2211480"/>
              <a:ext cx="159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30680" y="2211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30840" y="3125880"/>
              <a:ext cx="159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30680" y="304956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30840" y="2668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59080" y="2427480"/>
              <a:ext cx="1447560" cy="241200"/>
            </a:xfrm>
            <a:custGeom>
              <a:avLst/>
              <a:gdLst/>
              <a:ahLst/>
              <a:rect l="l" t="t" r="r" b="b"/>
              <a:pathLst>
                <a:path w="912" h="152">
                  <a:moveTo>
                    <a:pt x="0" y="152"/>
                  </a:moveTo>
                  <a:cubicBezTo>
                    <a:pt x="24" y="116"/>
                    <a:pt x="48" y="80"/>
                    <a:pt x="96" y="56"/>
                  </a:cubicBezTo>
                  <a:cubicBezTo>
                    <a:pt x="144" y="32"/>
                    <a:pt x="216" y="16"/>
                    <a:pt x="288" y="8"/>
                  </a:cubicBezTo>
                  <a:cubicBezTo>
                    <a:pt x="360" y="0"/>
                    <a:pt x="424" y="8"/>
                    <a:pt x="528" y="8"/>
                  </a:cubicBezTo>
                  <a:cubicBezTo>
                    <a:pt x="632" y="8"/>
                    <a:pt x="772" y="8"/>
                    <a:pt x="912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32120" y="21351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121360" y="3303720"/>
            <a:ext cx="2184480" cy="898560"/>
            <a:chOff x="5121360" y="3303720"/>
            <a:chExt cx="2184480" cy="898560"/>
          </a:xfrm>
        </p:grpSpPr>
        <p:sp>
          <p:nvSpPr>
            <p:cNvPr id="129" name=""/>
            <p:cNvSpPr/>
            <p:nvPr/>
          </p:nvSpPr>
          <p:spPr>
            <a:xfrm>
              <a:off x="5991120" y="3592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62520" y="3592440"/>
              <a:ext cx="457200" cy="60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48320" y="3592440"/>
              <a:ext cx="457200" cy="60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91120" y="42022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21360" y="33591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18200" y="3917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3440" y="330372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53240" y="3917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235480" y="4435200"/>
            <a:ext cx="1295640" cy="533520"/>
            <a:chOff x="5235480" y="4435200"/>
            <a:chExt cx="1295640" cy="533520"/>
          </a:xfrm>
        </p:grpSpPr>
        <p:sp>
          <p:nvSpPr>
            <p:cNvPr id="138" name=""/>
            <p:cNvSpPr/>
            <p:nvPr/>
          </p:nvSpPr>
          <p:spPr>
            <a:xfrm flipV="1">
              <a:off x="5235480" y="44352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35480" y="496872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35480" y="4489920"/>
              <a:ext cx="971280" cy="470880"/>
            </a:xfrm>
            <a:custGeom>
              <a:avLst/>
              <a:gdLst/>
              <a:ahLst/>
              <a:rect l="l" t="t" r="r" b="b"/>
              <a:pathLst>
                <a:path w="720" h="424">
                  <a:moveTo>
                    <a:pt x="0" y="424"/>
                  </a:moveTo>
                  <a:cubicBezTo>
                    <a:pt x="36" y="384"/>
                    <a:pt x="72" y="344"/>
                    <a:pt x="96" y="280"/>
                  </a:cubicBezTo>
                  <a:cubicBezTo>
                    <a:pt x="120" y="216"/>
                    <a:pt x="128" y="80"/>
                    <a:pt x="144" y="40"/>
                  </a:cubicBezTo>
                  <a:cubicBezTo>
                    <a:pt x="160" y="0"/>
                    <a:pt x="176" y="24"/>
                    <a:pt x="192" y="40"/>
                  </a:cubicBezTo>
                  <a:cubicBezTo>
                    <a:pt x="208" y="56"/>
                    <a:pt x="224" y="96"/>
                    <a:pt x="240" y="136"/>
                  </a:cubicBezTo>
                  <a:cubicBezTo>
                    <a:pt x="256" y="176"/>
                    <a:pt x="256" y="240"/>
                    <a:pt x="288" y="280"/>
                  </a:cubicBezTo>
                  <a:cubicBezTo>
                    <a:pt x="320" y="320"/>
                    <a:pt x="360" y="352"/>
                    <a:pt x="432" y="376"/>
                  </a:cubicBezTo>
                  <a:cubicBezTo>
                    <a:pt x="504" y="400"/>
                    <a:pt x="612" y="412"/>
                    <a:pt x="720" y="4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213520" y="5272200"/>
            <a:ext cx="838080" cy="838080"/>
            <a:chOff x="5213520" y="5272200"/>
            <a:chExt cx="838080" cy="838080"/>
          </a:xfrm>
        </p:grpSpPr>
        <p:sp>
          <p:nvSpPr>
            <p:cNvPr id="142" name=""/>
            <p:cNvSpPr/>
            <p:nvPr/>
          </p:nvSpPr>
          <p:spPr>
            <a:xfrm>
              <a:off x="5213520" y="5272200"/>
              <a:ext cx="838080" cy="838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85760" y="5272200"/>
              <a:ext cx="465480" cy="838080"/>
            </a:xfrm>
            <a:custGeom>
              <a:avLst/>
              <a:gdLst/>
              <a:ahLst/>
              <a:rect l="l" t="t" r="r" b="b"/>
              <a:pathLst>
                <a:path w="400" h="672">
                  <a:moveTo>
                    <a:pt x="64" y="0"/>
                  </a:moveTo>
                  <a:cubicBezTo>
                    <a:pt x="88" y="16"/>
                    <a:pt x="112" y="32"/>
                    <a:pt x="112" y="48"/>
                  </a:cubicBezTo>
                  <a:cubicBezTo>
                    <a:pt x="112" y="64"/>
                    <a:pt x="64" y="72"/>
                    <a:pt x="64" y="96"/>
                  </a:cubicBezTo>
                  <a:cubicBezTo>
                    <a:pt x="64" y="120"/>
                    <a:pt x="112" y="168"/>
                    <a:pt x="112" y="192"/>
                  </a:cubicBezTo>
                  <a:cubicBezTo>
                    <a:pt x="112" y="216"/>
                    <a:pt x="56" y="224"/>
                    <a:pt x="64" y="240"/>
                  </a:cubicBezTo>
                  <a:cubicBezTo>
                    <a:pt x="72" y="256"/>
                    <a:pt x="168" y="264"/>
                    <a:pt x="160" y="288"/>
                  </a:cubicBezTo>
                  <a:cubicBezTo>
                    <a:pt x="152" y="312"/>
                    <a:pt x="32" y="352"/>
                    <a:pt x="16" y="384"/>
                  </a:cubicBezTo>
                  <a:cubicBezTo>
                    <a:pt x="0" y="416"/>
                    <a:pt x="0" y="432"/>
                    <a:pt x="64" y="480"/>
                  </a:cubicBezTo>
                  <a:cubicBezTo>
                    <a:pt x="128" y="528"/>
                    <a:pt x="264" y="600"/>
                    <a:pt x="400" y="6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365880" y="526896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62640" y="5506920"/>
            <a:ext cx="833400" cy="341280"/>
          </a:xfrm>
          <a:custGeom>
            <a:avLst/>
            <a:gdLst/>
            <a:ahLst/>
            <a:rect l="l" t="t" r="r" b="b"/>
            <a:pathLst>
              <a:path w="525" h="215">
                <a:moveTo>
                  <a:pt x="0" y="104"/>
                </a:moveTo>
                <a:cubicBezTo>
                  <a:pt x="43" y="159"/>
                  <a:pt x="86" y="215"/>
                  <a:pt x="147" y="200"/>
                </a:cubicBezTo>
                <a:cubicBezTo>
                  <a:pt x="208" y="185"/>
                  <a:pt x="303" y="28"/>
                  <a:pt x="366" y="14"/>
                </a:cubicBezTo>
                <a:cubicBezTo>
                  <a:pt x="429" y="0"/>
                  <a:pt x="477" y="58"/>
                  <a:pt x="525" y="11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Particle produc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ton beam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encil li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fr-FR" sz="2800" spc="-1" strike="noStrike">
                <a:solidFill>
                  <a:srgbClr val="006666"/>
                </a:solidFill>
                <a:latin typeface="Tahoma"/>
              </a:rPr>
              <a:t>2.2GeV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800" spc="-1" strike="noStrike">
                <a:solidFill>
                  <a:srgbClr val="ff0000"/>
                </a:solidFill>
                <a:latin typeface="Tahoma"/>
              </a:rPr>
              <a:t>3.5GeV, 4.5GeV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, 6.5GeV and 8Ge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protons on targ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arget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30cm long cylinder,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5mm in Liquid mercu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LUKA 2002.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rmalized to a power of 4M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Kaon produc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28680" y="4572000"/>
            <a:ext cx="5691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500 000 protons,  E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&lt; 5G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ahoma"/>
              </a:rPr>
              <a:t>at 2.2GeV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0.26 </a:t>
            </a:r>
            <a:r>
              <a:rPr b="0" lang="fr-FR" sz="24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6666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0.8 10</a:t>
            </a:r>
            <a:r>
              <a:rPr b="0" lang="fr-FR" sz="2400" spc="-1" strike="noStrike" baseline="30000">
                <a:solidFill>
                  <a:srgbClr val="006666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006666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80400" y="914400"/>
            <a:ext cx="30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e BENE meeting 11/09/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49800" y="4965840"/>
            <a:ext cx="3200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Tahoma"/>
              </a:rPr>
              <a:t>at 3.5GeV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0.29 </a:t>
            </a: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2.8 10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KaonProd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20840" y="1263600"/>
            <a:ext cx="8404200" cy="33228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7719840" y="4398840"/>
            <a:ext cx="638280" cy="1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8000" y="2655720"/>
            <a:ext cx="2635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160" y="1728720"/>
            <a:ext cx="801720" cy="1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1880" y="1728720"/>
            <a:ext cx="725400" cy="90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94160" y="4359240"/>
            <a:ext cx="701640" cy="1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94160" y="4259520"/>
            <a:ext cx="81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(G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80240" y="4273920"/>
            <a:ext cx="81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(G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35840" y="18277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59120" y="2437560"/>
            <a:ext cx="3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84720" y="189288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42920" y="3674160"/>
            <a:ext cx="3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23760" y="28710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34040" y="4954680"/>
            <a:ext cx="2824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0080"/>
                </a:solidFill>
                <a:latin typeface="Tahoma"/>
              </a:rPr>
              <a:t>at 4.5GeV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0.32 </a:t>
            </a:r>
            <a:r>
              <a:rPr b="0" lang="fr-FR" sz="2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80008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5.2 10</a:t>
            </a:r>
            <a:r>
              <a:rPr b="0" lang="fr-FR" sz="2400" spc="-1" strike="noStrike" baseline="30000">
                <a:solidFill>
                  <a:srgbClr val="800080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80008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30640" y="5076720"/>
            <a:ext cx="88920" cy="123660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50000">
                <a:srgbClr val="800080"/>
              </a:gs>
              <a:gs pos="100000">
                <a:srgbClr val="f7ea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99040" y="5067360"/>
            <a:ext cx="88920" cy="123660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50000">
                <a:srgbClr val="800080"/>
              </a:gs>
              <a:gs pos="100000">
                <a:srgbClr val="f7ea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15920" y="3639960"/>
            <a:ext cx="1917720" cy="474840"/>
          </a:xfrm>
          <a:custGeom>
            <a:avLst/>
            <a:gdLst/>
            <a:ahLst/>
            <a:rect l="l" t="t" r="r" b="b"/>
            <a:pathLst>
              <a:path w="1208" h="299">
                <a:moveTo>
                  <a:pt x="0" y="299"/>
                </a:moveTo>
                <a:cubicBezTo>
                  <a:pt x="57" y="290"/>
                  <a:pt x="116" y="284"/>
                  <a:pt x="200" y="263"/>
                </a:cubicBezTo>
                <a:cubicBezTo>
                  <a:pt x="284" y="242"/>
                  <a:pt x="437" y="200"/>
                  <a:pt x="508" y="175"/>
                </a:cubicBezTo>
                <a:cubicBezTo>
                  <a:pt x="579" y="150"/>
                  <a:pt x="591" y="128"/>
                  <a:pt x="628" y="111"/>
                </a:cubicBezTo>
                <a:cubicBezTo>
                  <a:pt x="665" y="94"/>
                  <a:pt x="681" y="89"/>
                  <a:pt x="728" y="75"/>
                </a:cubicBezTo>
                <a:cubicBezTo>
                  <a:pt x="775" y="61"/>
                  <a:pt x="854" y="0"/>
                  <a:pt x="912" y="27"/>
                </a:cubicBezTo>
                <a:cubicBezTo>
                  <a:pt x="970" y="54"/>
                  <a:pt x="1027" y="199"/>
                  <a:pt x="1076" y="235"/>
                </a:cubicBezTo>
                <a:cubicBezTo>
                  <a:pt x="1125" y="271"/>
                  <a:pt x="1184" y="242"/>
                  <a:pt x="1208" y="24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01960" y="1731960"/>
            <a:ext cx="1219320" cy="2306520"/>
          </a:xfrm>
          <a:custGeom>
            <a:avLst/>
            <a:gdLst/>
            <a:ahLst/>
            <a:rect l="l" t="t" r="r" b="b"/>
            <a:pathLst>
              <a:path w="768" h="1453">
                <a:moveTo>
                  <a:pt x="0" y="1453"/>
                </a:moveTo>
                <a:cubicBezTo>
                  <a:pt x="66" y="1374"/>
                  <a:pt x="133" y="1295"/>
                  <a:pt x="192" y="1181"/>
                </a:cubicBezTo>
                <a:cubicBezTo>
                  <a:pt x="251" y="1067"/>
                  <a:pt x="288" y="945"/>
                  <a:pt x="356" y="769"/>
                </a:cubicBezTo>
                <a:cubicBezTo>
                  <a:pt x="424" y="593"/>
                  <a:pt x="531" y="250"/>
                  <a:pt x="600" y="125"/>
                </a:cubicBezTo>
                <a:cubicBezTo>
                  <a:pt x="669" y="0"/>
                  <a:pt x="718" y="8"/>
                  <a:pt x="768" y="1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22400" y="2317680"/>
            <a:ext cx="3098880" cy="1824120"/>
          </a:xfrm>
          <a:custGeom>
            <a:avLst/>
            <a:gdLst/>
            <a:ahLst/>
            <a:rect l="l" t="t" r="r" b="b"/>
            <a:pathLst>
              <a:path w="1952" h="1149">
                <a:moveTo>
                  <a:pt x="0" y="1140"/>
                </a:moveTo>
                <a:cubicBezTo>
                  <a:pt x="161" y="1128"/>
                  <a:pt x="323" y="1116"/>
                  <a:pt x="436" y="1092"/>
                </a:cubicBezTo>
                <a:cubicBezTo>
                  <a:pt x="549" y="1068"/>
                  <a:pt x="601" y="1026"/>
                  <a:pt x="676" y="996"/>
                </a:cubicBezTo>
                <a:cubicBezTo>
                  <a:pt x="751" y="966"/>
                  <a:pt x="821" y="896"/>
                  <a:pt x="888" y="912"/>
                </a:cubicBezTo>
                <a:cubicBezTo>
                  <a:pt x="955" y="928"/>
                  <a:pt x="1021" y="1065"/>
                  <a:pt x="1080" y="1092"/>
                </a:cubicBezTo>
                <a:cubicBezTo>
                  <a:pt x="1139" y="1119"/>
                  <a:pt x="1165" y="1149"/>
                  <a:pt x="1240" y="1072"/>
                </a:cubicBezTo>
                <a:cubicBezTo>
                  <a:pt x="1315" y="995"/>
                  <a:pt x="1458" y="756"/>
                  <a:pt x="1528" y="632"/>
                </a:cubicBezTo>
                <a:cubicBezTo>
                  <a:pt x="1598" y="508"/>
                  <a:pt x="1606" y="403"/>
                  <a:pt x="1660" y="328"/>
                </a:cubicBezTo>
                <a:cubicBezTo>
                  <a:pt x="1714" y="253"/>
                  <a:pt x="1813" y="233"/>
                  <a:pt x="1852" y="184"/>
                </a:cubicBezTo>
                <a:cubicBezTo>
                  <a:pt x="1891" y="135"/>
                  <a:pt x="1875" y="63"/>
                  <a:pt x="1892" y="32"/>
                </a:cubicBezTo>
                <a:cubicBezTo>
                  <a:pt x="1909" y="1"/>
                  <a:pt x="1930" y="0"/>
                  <a:pt x="1952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15920" y="4044960"/>
            <a:ext cx="3117960" cy="201600"/>
          </a:xfrm>
          <a:custGeom>
            <a:avLst/>
            <a:gdLst/>
            <a:ahLst/>
            <a:rect l="l" t="t" r="r" b="b"/>
            <a:pathLst>
              <a:path w="1964" h="127">
                <a:moveTo>
                  <a:pt x="0" y="112"/>
                </a:moveTo>
                <a:cubicBezTo>
                  <a:pt x="462" y="119"/>
                  <a:pt x="925" y="127"/>
                  <a:pt x="1220" y="112"/>
                </a:cubicBezTo>
                <a:cubicBezTo>
                  <a:pt x="1515" y="97"/>
                  <a:pt x="1648" y="43"/>
                  <a:pt x="1772" y="24"/>
                </a:cubicBezTo>
                <a:cubicBezTo>
                  <a:pt x="1896" y="5"/>
                  <a:pt x="1930" y="2"/>
                  <a:pt x="1964" y="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1739880"/>
            <a:ext cx="3124440" cy="1635120"/>
          </a:xfrm>
          <a:custGeom>
            <a:avLst/>
            <a:gdLst/>
            <a:ahLst/>
            <a:rect l="l" t="t" r="r" b="b"/>
            <a:pathLst>
              <a:path w="1968" h="1030">
                <a:moveTo>
                  <a:pt x="0" y="1016"/>
                </a:moveTo>
                <a:cubicBezTo>
                  <a:pt x="12" y="1023"/>
                  <a:pt x="25" y="1030"/>
                  <a:pt x="36" y="1016"/>
                </a:cubicBezTo>
                <a:cubicBezTo>
                  <a:pt x="47" y="1002"/>
                  <a:pt x="26" y="963"/>
                  <a:pt x="64" y="932"/>
                </a:cubicBezTo>
                <a:cubicBezTo>
                  <a:pt x="102" y="901"/>
                  <a:pt x="191" y="863"/>
                  <a:pt x="264" y="828"/>
                </a:cubicBezTo>
                <a:cubicBezTo>
                  <a:pt x="337" y="793"/>
                  <a:pt x="433" y="754"/>
                  <a:pt x="504" y="720"/>
                </a:cubicBezTo>
                <a:cubicBezTo>
                  <a:pt x="575" y="686"/>
                  <a:pt x="621" y="658"/>
                  <a:pt x="688" y="624"/>
                </a:cubicBezTo>
                <a:cubicBezTo>
                  <a:pt x="755" y="590"/>
                  <a:pt x="853" y="555"/>
                  <a:pt x="908" y="516"/>
                </a:cubicBezTo>
                <a:cubicBezTo>
                  <a:pt x="963" y="477"/>
                  <a:pt x="931" y="439"/>
                  <a:pt x="1016" y="392"/>
                </a:cubicBezTo>
                <a:cubicBezTo>
                  <a:pt x="1101" y="345"/>
                  <a:pt x="1319" y="277"/>
                  <a:pt x="1416" y="232"/>
                </a:cubicBezTo>
                <a:cubicBezTo>
                  <a:pt x="1513" y="187"/>
                  <a:pt x="1508" y="159"/>
                  <a:pt x="1600" y="120"/>
                </a:cubicBezTo>
                <a:cubicBezTo>
                  <a:pt x="1692" y="81"/>
                  <a:pt x="1830" y="40"/>
                  <a:pt x="1968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19640" y="2457360"/>
            <a:ext cx="3117960" cy="1130400"/>
          </a:xfrm>
          <a:custGeom>
            <a:avLst/>
            <a:gdLst/>
            <a:ahLst/>
            <a:rect l="l" t="t" r="r" b="b"/>
            <a:pathLst>
              <a:path w="1964" h="712">
                <a:moveTo>
                  <a:pt x="0" y="708"/>
                </a:moveTo>
                <a:cubicBezTo>
                  <a:pt x="12" y="710"/>
                  <a:pt x="24" y="712"/>
                  <a:pt x="40" y="692"/>
                </a:cubicBezTo>
                <a:cubicBezTo>
                  <a:pt x="56" y="672"/>
                  <a:pt x="40" y="627"/>
                  <a:pt x="96" y="588"/>
                </a:cubicBezTo>
                <a:cubicBezTo>
                  <a:pt x="152" y="549"/>
                  <a:pt x="280" y="505"/>
                  <a:pt x="376" y="456"/>
                </a:cubicBezTo>
                <a:cubicBezTo>
                  <a:pt x="472" y="407"/>
                  <a:pt x="592" y="337"/>
                  <a:pt x="672" y="296"/>
                </a:cubicBezTo>
                <a:cubicBezTo>
                  <a:pt x="752" y="255"/>
                  <a:pt x="808" y="223"/>
                  <a:pt x="856" y="208"/>
                </a:cubicBezTo>
                <a:cubicBezTo>
                  <a:pt x="904" y="193"/>
                  <a:pt x="924" y="197"/>
                  <a:pt x="960" y="208"/>
                </a:cubicBezTo>
                <a:cubicBezTo>
                  <a:pt x="996" y="219"/>
                  <a:pt x="1019" y="262"/>
                  <a:pt x="1072" y="272"/>
                </a:cubicBezTo>
                <a:cubicBezTo>
                  <a:pt x="1125" y="282"/>
                  <a:pt x="1215" y="279"/>
                  <a:pt x="1280" y="268"/>
                </a:cubicBezTo>
                <a:cubicBezTo>
                  <a:pt x="1345" y="257"/>
                  <a:pt x="1398" y="232"/>
                  <a:pt x="1460" y="208"/>
                </a:cubicBezTo>
                <a:cubicBezTo>
                  <a:pt x="1522" y="184"/>
                  <a:pt x="1568" y="159"/>
                  <a:pt x="1652" y="124"/>
                </a:cubicBezTo>
                <a:cubicBezTo>
                  <a:pt x="1736" y="89"/>
                  <a:pt x="1850" y="44"/>
                  <a:pt x="1964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Pion produc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31880" y="1249200"/>
            <a:ext cx="5867640" cy="397836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6259680" y="121752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2 10</a:t>
            </a:r>
            <a:r>
              <a:rPr b="1" lang="fr-FR" sz="2000" spc="-1" strike="noStrike" baseline="30000">
                <a:solidFill>
                  <a:srgbClr val="660066"/>
                </a:solidFill>
                <a:latin typeface="Tahoma"/>
              </a:rPr>
              <a:t>5</a:t>
            </a: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 p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854440" y="3111480"/>
            <a:ext cx="1512720" cy="1664640"/>
            <a:chOff x="2854440" y="3111480"/>
            <a:chExt cx="1512720" cy="1664640"/>
          </a:xfrm>
        </p:grpSpPr>
        <p:sp>
          <p:nvSpPr>
            <p:cNvPr id="178" name=""/>
            <p:cNvSpPr/>
            <p:nvPr/>
          </p:nvSpPr>
          <p:spPr>
            <a:xfrm flipV="1">
              <a:off x="2854440" y="3782880"/>
              <a:ext cx="0" cy="9932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367160" y="3782880"/>
              <a:ext cx="0" cy="9932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03640" y="3111480"/>
              <a:ext cx="802440" cy="398880"/>
            </a:xfrm>
            <a:prstGeom prst="rect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Fa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854440" y="3564000"/>
              <a:ext cx="407520" cy="21888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959280" y="3564000"/>
              <a:ext cx="407520" cy="21888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96040" y="3110040"/>
            <a:ext cx="487080" cy="1666080"/>
            <a:chOff x="4496040" y="3110040"/>
            <a:chExt cx="487080" cy="1666080"/>
          </a:xfrm>
        </p:grpSpPr>
        <p:grpSp>
          <p:nvGrpSpPr>
            <p:cNvPr id="184" name=""/>
            <p:cNvGrpSpPr/>
            <p:nvPr/>
          </p:nvGrpSpPr>
          <p:grpSpPr>
            <a:xfrm>
              <a:off x="4500720" y="3481200"/>
              <a:ext cx="466920" cy="1294920"/>
              <a:chOff x="4500720" y="3481200"/>
              <a:chExt cx="466920" cy="129492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4500720" y="3481200"/>
                <a:ext cx="0" cy="129492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967640" y="3481200"/>
                <a:ext cx="0" cy="129492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4496040" y="3110040"/>
              <a:ext cx="487080" cy="398880"/>
            </a:xfrm>
            <a:prstGeom prst="rect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S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618200" y="5415120"/>
            <a:ext cx="58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ion production at the exit of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arison MARS FLUKA sim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corne600hr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886200" cy="388620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457200" y="2514600"/>
            <a:ext cx="38088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Horn simula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awing from the horn built at C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ized for Super Beam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corne3D" descr=""/>
          <p:cNvPicPr/>
          <p:nvPr/>
        </p:nvPicPr>
        <p:blipFill>
          <a:blip r:embed="rId2"/>
          <a:stretch/>
        </p:blipFill>
        <p:spPr>
          <a:xfrm>
            <a:off x="4495680" y="3103560"/>
            <a:ext cx="4572000" cy="2852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38080" y="2743200"/>
            <a:ext cx="3124440" cy="312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190400">
            <a:off x="150120" y="267084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r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3400" y="48006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400" y="38862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5867280"/>
            <a:ext cx="3276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35120" y="579132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z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82880" y="5867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49560" y="5867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40280" y="5867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63200" y="594360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NuFact-Note 1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92280" y="5308560"/>
            <a:ext cx="28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Geant 3.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1766880"/>
            <a:ext cx="284940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~ 26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600MeV/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~ 30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800MeV/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Horn design parameter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43920" y="1054080"/>
            <a:ext cx="4890240" cy="2361960"/>
            <a:chOff x="3643920" y="1054080"/>
            <a:chExt cx="4890240" cy="2361960"/>
          </a:xfrm>
        </p:grpSpPr>
        <p:pic>
          <p:nvPicPr>
            <p:cNvPr id="208" name="corne350" descr=""/>
            <p:cNvPicPr/>
            <p:nvPr/>
          </p:nvPicPr>
          <p:blipFill>
            <a:blip r:embed="rId1"/>
            <a:stretch/>
          </p:blipFill>
          <p:spPr>
            <a:xfrm>
              <a:off x="3657600" y="1128600"/>
              <a:ext cx="4876560" cy="2284560"/>
            </a:xfrm>
            <a:prstGeom prst="rect">
              <a:avLst/>
            </a:prstGeom>
            <a:ln w="28440">
              <a:solidFill>
                <a:srgbClr val="660066"/>
              </a:solidFill>
              <a:miter/>
            </a:ln>
          </p:spPr>
        </p:pic>
        <p:sp>
          <p:nvSpPr>
            <p:cNvPr id="209" name=""/>
            <p:cNvSpPr/>
            <p:nvPr/>
          </p:nvSpPr>
          <p:spPr>
            <a:xfrm>
              <a:off x="4038480" y="3195360"/>
              <a:ext cx="380988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62160" y="30477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00520" y="304776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14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33800" y="328932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53080" y="304776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2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24680" y="2014560"/>
              <a:ext cx="609480" cy="88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1000" y="1276200"/>
              <a:ext cx="0" cy="15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95000" y="1719000"/>
              <a:ext cx="686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8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43920" y="1054080"/>
              <a:ext cx="1543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Tahoma"/>
                </a:rPr>
                <a:t>E</a:t>
              </a:r>
              <a:r>
                <a:rPr b="1" lang="en-US" sz="2000" spc="-1" strike="noStrike" baseline="-25000">
                  <a:solidFill>
                    <a:srgbClr val="660066"/>
                  </a:solidFill>
                  <a:latin typeface="Symbol"/>
                  <a:ea typeface="Symbol"/>
                </a:rPr>
                <a:t></a:t>
              </a:r>
              <a:r>
                <a:rPr b="1" lang="en-US" sz="2000" spc="-1" strike="noStrike">
                  <a:solidFill>
                    <a:srgbClr val="660066"/>
                  </a:solidFill>
                  <a:latin typeface="Tahoma"/>
                </a:rPr>
                <a:t>~300M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8" name=""/>
          <p:cNvGraphicFramePr/>
          <p:nvPr/>
        </p:nvGraphicFramePr>
        <p:xfrm>
          <a:off x="2052720" y="3639960"/>
          <a:ext cx="2438280" cy="2679480"/>
        </p:xfrm>
        <a:graphic>
          <a:graphicData uri="http://schemas.openxmlformats.org/drawingml/2006/table">
            <a:tbl>
              <a:tblPr/>
              <a:tblGrid>
                <a:gridCol w="1487160"/>
                <a:gridCol w="9511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2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9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548400" y="3673440"/>
          <a:ext cx="2438280" cy="2679840"/>
        </p:xfrm>
        <a:graphic>
          <a:graphicData uri="http://schemas.openxmlformats.org/drawingml/2006/table">
            <a:tbl>
              <a:tblPr/>
              <a:tblGrid>
                <a:gridCol w="1487520"/>
                <a:gridCol w="9507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2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23840" y="445464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26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60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6520" y="442260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30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80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0240" y="1752480"/>
            <a:ext cx="344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uctor thickness : 3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rn : 300k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or : 600k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Decay Tunnel Parameters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3960" y="1143000"/>
            <a:ext cx="423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dify p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=10m, 20m, 40m and 60m have been tes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0m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+ 50% to 7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+ 50% to 10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0m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6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+ 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+ 2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Tahoma"/>
              </a:rPr>
              <a:t>40m seems b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84600" y="1155600"/>
            <a:ext cx="4346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dify accep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=1m, 1.5m and 2m have been Te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m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m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L=4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+5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+50% to 7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Tahoma"/>
              </a:rPr>
              <a:t>2m seems b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4797360" y="4925880"/>
            <a:ext cx="3311640" cy="165780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ahoma"/>
              </a:rPr>
              <a:t>This results have been checked on sensitivity to </a:t>
            </a:r>
            <a:r>
              <a:rPr b="0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660066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660066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660066"/>
                </a:solidFill>
                <a:latin typeface="Tahoma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03240" y="3432240"/>
            <a:ext cx="163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16200" y="3825720"/>
            <a:ext cx="163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17640" y="4611600"/>
            <a:ext cx="163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30240" y="4973760"/>
            <a:ext cx="163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215040" y="3435480"/>
            <a:ext cx="214200" cy="355320"/>
            <a:chOff x="6215040" y="3435480"/>
            <a:chExt cx="214200" cy="355320"/>
          </a:xfrm>
        </p:grpSpPr>
        <p:sp>
          <p:nvSpPr>
            <p:cNvPr id="232" name=""/>
            <p:cNvSpPr/>
            <p:nvPr/>
          </p:nvSpPr>
          <p:spPr>
            <a:xfrm>
              <a:off x="6215040" y="3435480"/>
              <a:ext cx="16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65800" y="3790800"/>
              <a:ext cx="16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Flux calcula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w energy </a:t>
            </a:r>
            <a:r>
              <a:rPr b="0" lang="en-GB" sz="2800" spc="-1" strike="noStrike">
                <a:solidFill>
                  <a:srgbClr val="006666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Small boost </a:t>
            </a:r>
            <a:r>
              <a:rPr b="0" lang="en-GB" sz="2800" spc="-1" strike="noStrike">
                <a:solidFill>
                  <a:srgbClr val="006666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w focu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a high number of events (~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Arial"/>
              </a:rPr>
              <a:t>10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15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Arial"/>
              </a:rPr>
              <a:t> evts!!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probability (M. Donega thesis approac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ach time a pion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uon, or a kaon is decayed by Geant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pute the probability for the neutrino to reach the det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is</a:t>
            </a:r>
            <a:r>
              <a:rPr b="0" lang="en-US" sz="2400" spc="-1" strike="noStrike">
                <a:solidFill>
                  <a:srgbClr val="00808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ability as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fill an histogram with the neutrino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few kaon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fore a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ka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oduced in the target is duplicated many times:</a:t>
            </a:r>
            <a:r>
              <a:rPr b="0" lang="en-GB" sz="2400" spc="-1" strike="noStrike">
                <a:solidFill>
                  <a:srgbClr val="00808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8080"/>
                </a:solidFill>
                <a:latin typeface="Monotype Corsiva"/>
              </a:rPr>
              <a:t>~1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eutrino spectr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 rot="21579000">
            <a:off x="183600" y="4682880"/>
            <a:ext cx="730440" cy="674280"/>
          </a:xfrm>
          <a:prstGeom prst="rightArrow">
            <a:avLst>
              <a:gd name="adj1" fmla="val 50000"/>
              <a:gd name="adj2" fmla="val 270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04:34Z</dcterms:created>
  <dc:creator>cazes</dc:creator>
  <dc:description/>
  <dc:language>en-US</dc:language>
  <cp:lastModifiedBy>CAZES</cp:lastModifiedBy>
  <dcterms:modified xsi:type="dcterms:W3CDTF">2004-11-02T22:08:08Z</dcterms:modified>
  <cp:revision>27</cp:revision>
  <dc:subject/>
  <dc:title>SPL-Fréjus optimisation. </dc:title>
</cp:coreProperties>
</file>